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B8A-9B1E-40A2-9270-48AE3CF9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7E6-E40D-4A05-B664-E7FA5C65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44D-06A1-461B-A349-E2F8BA3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8F7-6EE1-46D7-8021-B0034099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D8A-C733-47B7-A557-EA250E04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CCE-00AD-459E-8DA5-E44281C7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356-194F-479D-B6E1-0D97D0D9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312-B2A2-4916-85F2-059FA2E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4CC-DF19-4182-A87E-0EEB7E0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87E-3E07-4637-99DF-8FAD792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15E-1042-4447-9F3F-D3E82A4D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491-6F04-438C-BA1D-62E47F87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361881A8-BC7C-4EC8-9756-5F8F1B30A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ktoberfest.de/en/" TargetMode="External"/><Relationship Id="rId3" Type="http://schemas.openxmlformats.org/officeDocument/2006/relationships/hyperlink" Target="http://www.ofest.com/history.html" TargetMode="External"/><Relationship Id="rId4" Type="http://schemas.openxmlformats.org/officeDocument/2006/relationships/hyperlink" Target="http://www.vistawide.com/german/oktoberfest/oktoberfest.htm" TargetMode="External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ktoberfes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worlds largest beerf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nnually held in Munich Ger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vent can bring over 450 million euros to coffers each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rgest Oktoberfest celebration in the US is held in Zinzinnati Oh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oktoberfest.de/en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ofest.com/history.htm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had both information and the picture of the 1810 Oktoberfe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vistawide.com/german/oktoberfest/oktoberfest.ht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had both information and the picture of the event and be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toberfest started in 181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stival was celebrated on October 12 for the marriage of Bavarian Crown Prince Ludwig to the Saxon-Hildburghausen Princess Ther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stival was held over 5 days in front of the gates of Muni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3280" y="2616120"/>
            <a:ext cx="442584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 events in 1810 were Horse r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many amusement rides setup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stival starts when at noon the mayor of Munich drives a wooden tap into a beer barre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81480" y="1771560"/>
            <a:ext cx="441972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ood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food is Hend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dl is a whole chicken grilled on a s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t of meat is found at the Oktoberfest the most common is p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t of different desserts are off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esserts consist of sugar-glazed almonds, cotton candy, glazed fruit, ice cream, and ginger bread men with slogans in icing written on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beverage and most well known at Oktoberf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er is called März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stronger and darker than traditional be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contain up to 6% alcoh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er must be brewed according to strict German standards called Reinheitsgebo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686800" y="365760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usic is typically folk, polkas, and marc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is folk music found here there can also be popular music from around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ill link arms and sway back and fo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 evening goes on the music can get louder and lou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ktoberfest Peo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at people visit an Oktoberfest site a lot more around Oktoberfest that do not usually visit the si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6858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common meat consum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Be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P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Po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common type of bever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W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8680" indent="-31392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Be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sw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type of meat consumed is po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type of beverage is Be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3:24:45Z</dcterms:created>
  <dc:creator>Austin  Averett</dc:creator>
  <dc:description>General introduction of a new product taking customer wishes into account</dc:description>
  <dc:language>en-US</dc:language>
  <cp:lastModifiedBy>Austin  Averett</cp:lastModifiedBy>
  <dcterms:modified xsi:type="dcterms:W3CDTF">2011-10-27T01:36:44Z</dcterms:modified>
  <cp:revision>3</cp:revision>
  <dc:subject/>
  <dc:title>Introducing a New Product</dc:title>
</cp:coreProperties>
</file>